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9.png" ContentType="image/png"/>
  <Override PartName="/ppt/media/image6.png" ContentType="image/png"/>
  <Override PartName="/ppt/media/image26.png" ContentType="image/png"/>
  <Override PartName="/ppt/media/image3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wmf" ContentType="image/x-wmf"/>
  <Override PartName="/ppt/media/image5.jpeg" ContentType="image/jpeg"/>
  <Override PartName="/ppt/media/image4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0" y="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70440" y="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0800" y="696960"/>
            <a:ext cx="4632120" cy="34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591160" cy="4167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EA444-B4AC-47BD-8E62-AEB49FB723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1E91C-51D9-4BAE-BADE-81747EDD02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5BB72-4DA1-43C9-A8B7-86195BAF1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E683D-DBE9-4482-A88C-9C75EFF517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89DA1-D77A-4B55-82F7-466E9992E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47457-F99E-49EA-92E3-CC21EFD786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F0F16-1A79-45AB-9815-01BC6994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316BD-3FC8-4955-A7C4-2E523AC5C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8632C-AA77-4950-993B-D307772DE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6F631-307A-44C2-8D67-09A8A3F1DA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E4CA4-EC64-4DEB-B1C8-AE9AC542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0C6B8-4CD9-4D8C-9AD3-CD436EA5C8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99DDD-49BA-49B2-AA3C-B09C9A346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87720-15FC-4B94-B0C3-619685DB86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F3301-15B2-49DD-9A57-5FFDBFD05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2BA49-9849-4A9E-8CA2-20021A3411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CBF0A-6C45-4ACD-BDB9-8B825D05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9340B-C660-472A-8248-D14F3D9EC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DF3BD-BD25-4B18-AFFF-FA431475B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B66CF-9A09-4102-B886-965C348477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23E09-9870-495F-AF80-5EDE6F22C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F3342-08F2-48AF-983D-D9155BE88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6569B-0E83-4C0B-8236-33CFB506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FFC00-DCCA-421E-AF47-6CCB529D84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57175-A8F2-490B-92E5-065D3D6DD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69920-EAF5-47E3-8360-B5F161B26B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44FBC-3282-4001-89F4-40CDCFCC4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26D32-C0AF-4FEC-BDFD-9994CD2553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13507-3818-4F34-AE17-96CF81A0A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436F7-8915-4215-B7D4-A170EA43FA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66790-10FF-4809-BCA4-A01E760D9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CF4D0-ECEC-466D-AC23-DA35607045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A1E60-742D-49F3-91D9-7A556F9CD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BF844-84F5-4DF8-BD72-7F7856971C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C6BD4-F7B8-4489-9A69-6F6751E42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BC9F4-CE31-4171-B82B-BBF905358E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3DBBB-D1BB-49BC-A1C7-1E2E52AD7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3F25E-7AB1-4F3F-967A-F6AD685999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32215-CF45-4B22-81DC-534E921CA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9C5FC-6A83-42CB-80F5-E0D511404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2084B-5CDF-45F9-9ABE-65A99996A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98771-D240-4963-B9B6-C25C223B9E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E3984-F004-4F48-AFCE-D282ACCED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CCD68-BD78-4A0F-A3D0-5F3ED3A5E8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0B53A-AB9B-4DDA-BE65-EAE6ED6EB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2B592-4FE3-4527-A834-F50D4CDB28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2CABC-9497-43E2-9E72-22E9B10C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FD94B-209D-4BFB-96F6-194ECF2EE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D09B5-B4B2-4305-9358-043B97099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6AB73-28EB-491F-A933-0270C9F2D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8CE75-7DA0-4FB7-A515-E4D3D4162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F39AB-BCF8-4637-AB90-0512D63884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A1AD6-F0E0-41DE-AEE1-5958B9A39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66239-4EDF-4FB8-9489-61D2AD253A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55684-004F-461C-AF84-48C81DCA9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29D42-4692-4D98-9DDE-3E4497EF8A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0ADBE-C20D-46C2-AEF5-16FF456C0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E9D28-DF15-4ECF-AEE8-A59C4EBE0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316D9-88DB-4155-851B-4B9F60912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911F1-FEF0-4105-9B0F-CD9DDF2A8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7AD93-3FC4-41C4-829A-F44ED8193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3B9F8-3000-460B-80F8-BECA1C6EE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338F9-05D0-4612-897D-1397FB02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8A97B-F2B4-4367-AEEA-046E6CE8A4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5EA6C-8FD0-4722-8C3A-9B3EE2E89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F70F4-6625-4612-AB7E-2D428196E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34A91-B4D1-43A5-9A87-3ECEB93F1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BB0BD-2D37-41B7-A2CC-6ACC0786E5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B79A4-8C5E-476D-B623-9EDE1468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C3FF2-50E0-454C-8DE5-D2D02E7EB2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16FFB-CB9D-4039-8B3D-800373255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994F4-E556-4713-BE08-7F79DB286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709C8-B885-4535-A961-FC3130185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AD02B-770A-44D3-AE52-143EFBE2A8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C020D-5318-4ED1-AC88-B2D210B1C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C6168-8E3B-4E23-9F98-E0E0E6106B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72423-2B0D-49C2-89BE-EC80DC5E2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A819F-C5C4-4661-AA6C-9DB19E228A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EA99B-F00B-4723-AE0A-3A7FD760E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F1881-677B-4394-956F-78C59556C3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7681E-6018-4D20-9E9D-A8695294E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9BA52-8D8A-42EC-98D7-85D90CF3FF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A3119-E7DE-4440-8016-083CA5CD5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386EC-D84C-4052-8415-3B5462F30C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77937-E6DB-4DE8-8F22-21120B35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E428B-76AC-4DD5-89DF-FF314A4DD5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91860-2380-4BAB-A42C-DC4DAF7D2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A7774-58B3-4342-B52F-A29556A680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1CF68-6FC3-4347-9506-AF3550DEF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40F05-BAE0-433F-975A-D2CD8DA250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76F4A-B960-4697-9A01-D4C228C5B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15F96-52BF-478E-BD5D-0765ACA298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3BF42-6F37-4ED3-8680-327FF9A54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806FA-509F-4221-A48D-906426FB6A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939DA-03B9-4B0E-BB72-0DD1D68D2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FDA88-3A8B-4FDB-9479-5316AD090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B27EE-EC3A-4C34-8175-DBEBA12DB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17BBB-861B-4A62-B550-205573A68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CDA65-403A-4773-87BE-C38DC6DD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16BD7-BF7B-4339-A1D0-405718AD9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08C28-45AD-4359-9A4E-BC85866CC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4462D-6E6B-4216-9726-B3B2D238C5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6AA9A-543D-4CAD-BBA0-0E75DEBDF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2A12C-2F99-4373-BFDC-988E8E84BD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3E8B2-8D87-41D8-B691-2B2D03FE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9D56-9523-486F-A356-FDEDEB832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BA3A7-FF89-4E93-8DAB-14F2611AB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118116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C559E-305E-45AC-9269-382A023F8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EC300-3384-4DDB-AAE7-4A2A7067F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10F05-A02F-4778-A914-9AA0B74C90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74FDA-E8B0-48F8-A85E-DA3210E95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91911-6029-4C89-93B5-1BD5D31004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DF773-81A0-40F6-AB6A-7700972E1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F334B-6E96-4685-839C-CCAE4379B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F7E66-C8E0-4A1C-A423-1BA624547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71D2-D7E4-4877-9063-3246556A4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ED7F-58C2-4293-BB0A-67D495BCC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B591-4E5E-4E29-BF42-2AD43536A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812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660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928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0812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660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B704-3FA3-4795-8B5A-762927F8D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F333-95E0-482B-B964-65FDAD49CF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6F65-0B5E-4C0C-B5CA-B2960C94A6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4530-AD72-409B-817A-559936C98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E766-E6DC-4184-88ED-AF7B1A5757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1061-DF38-4C15-B648-2068EA9B3F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9280" y="0"/>
            <a:ext cx="7905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09D0-AABA-414D-8D39-641D7C45E7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A8D0-1B1B-47C4-8888-2740C97E04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C7DC-C063-43DF-A694-4DAA38DB5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A8F7-7F74-4F6E-AE1F-9BF3E9EEB1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6B33-E0A7-40BA-8EA8-0D3397B570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3D5D-2CF9-4730-A1A1-F234EC64BE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30CB-EDC8-4D07-BC89-E12464C281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812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660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1928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812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660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2371-A836-4E80-A0D8-047079F1E1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BB6-F3C4-4988-BB2B-1AC65E92B7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FE1-D1FD-47E0-8BA9-984146D8FC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AEA-6173-453C-8D46-E0DC122CA0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821-8274-454E-810F-DBC6B5A1E8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3D9-D9B1-4A75-83A5-8AD2E0396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E007-1D28-4AC2-9B80-35D35F1F33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19280" y="0"/>
            <a:ext cx="7905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21E-D3AF-4A96-9E85-EFE01583FE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D48-8F2F-4D8A-8FDF-C6FFC12E17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C76-5C56-46B2-AD2C-E5C6628388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0D4-DEA7-45E2-B43C-8641B5BFC9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8F8-633F-4A51-943C-9DBC4B8FBB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AEF-7E03-4C3A-9A8D-BFE6B86F95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0812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660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928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0812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9660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E07-CC02-4FB5-8C2D-16DB6620D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3D59-B946-4963-8D92-6775175CB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5D49-9DA4-4CF2-8931-307A8B509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19280" y="0"/>
            <a:ext cx="7905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00DD-AAB1-4CDF-BC37-F4FFAE849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383E-E006-4843-BACC-F61533646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27D4-9A1D-473C-9FF3-D69F332E5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338A-8EF8-45D8-8D97-AFCDF0F55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609480" cy="45086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80880" y="1049400"/>
            <a:ext cx="8302680" cy="179280"/>
            <a:chOff x="380880" y="1049400"/>
            <a:chExt cx="8302680" cy="179280"/>
          </a:xfrm>
        </p:grpSpPr>
        <p:sp>
          <p:nvSpPr>
            <p:cNvPr id="2" name="Rectangle 3"/>
            <p:cNvSpPr/>
            <p:nvPr/>
          </p:nvSpPr>
          <p:spPr>
            <a:xfrm>
              <a:off x="6855120" y="1049400"/>
              <a:ext cx="1828080" cy="179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380880" y="1122840"/>
              <a:ext cx="8302680" cy="1080"/>
            </a:xfrm>
            <a:prstGeom prst="line">
              <a:avLst/>
            </a:prstGeom>
            <a:ln w="1908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914400" y="6453360"/>
            <a:ext cx="19177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352680" y="6453360"/>
            <a:ext cx="2971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840000" y="6416280"/>
            <a:ext cx="18306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C75C4-CCB8-43BE-8DF4-2AB5AF82988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"/>
          <p:cNvSpPr/>
          <p:nvPr/>
        </p:nvSpPr>
        <p:spPr>
          <a:xfrm>
            <a:off x="0" y="4545000"/>
            <a:ext cx="609480" cy="144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400FD-AD55-475B-A60F-03544FEFB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55600" y="1160640"/>
            <a:ext cx="7772400" cy="243828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203480" y="1389240"/>
            <a:ext cx="7648560" cy="21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0" y="4869000"/>
            <a:ext cx="1763640" cy="1440"/>
          </a:xfrm>
          <a:prstGeom prst="line">
            <a:avLst/>
          </a:prstGeom>
          <a:ln w="5076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1356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12960" y="6251400"/>
            <a:ext cx="18936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354480" y="6248520"/>
            <a:ext cx="28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5A834-5AA0-4BA9-8ED4-FA0C9E6379B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044720" y="1143000"/>
            <a:ext cx="8148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Ensembles for predicting structured outpu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95400" y="4479840"/>
            <a:ext cx="7521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i Koc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124080" y="5491080"/>
            <a:ext cx="315936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8CA46-2E14-431A-BD82-308C62C4FEB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2"/>
          <p:cNvGrpSpPr/>
          <p:nvPr/>
        </p:nvGrpSpPr>
        <p:grpSpPr>
          <a:xfrm>
            <a:off x="614520" y="1168560"/>
            <a:ext cx="5327280" cy="2349360"/>
            <a:chOff x="614520" y="1168560"/>
            <a:chExt cx="5327280" cy="2349360"/>
          </a:xfrm>
        </p:grpSpPr>
        <p:pic>
          <p:nvPicPr>
            <p:cNvPr id="195" name="Picture 3" descr=""/>
            <p:cNvPicPr/>
            <p:nvPr/>
          </p:nvPicPr>
          <p:blipFill>
            <a:blip r:embed="rId1"/>
            <a:stretch/>
          </p:blipFill>
          <p:spPr>
            <a:xfrm>
              <a:off x="1098360" y="1168560"/>
              <a:ext cx="34657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4"/>
            <p:cNvSpPr/>
            <p:nvPr/>
          </p:nvSpPr>
          <p:spPr>
            <a:xfrm>
              <a:off x="614520" y="1912320"/>
              <a:ext cx="18993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bolism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5"/>
            <p:cNvSpPr/>
            <p:nvPr/>
          </p:nvSpPr>
          <p:spPr>
            <a:xfrm>
              <a:off x="2464560" y="1993320"/>
              <a:ext cx="142020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ergy 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1261800" y="2992680"/>
              <a:ext cx="17089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iration (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3241080" y="2992680"/>
              <a:ext cx="20152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rmentation (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032720" y="1985400"/>
              <a:ext cx="1909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cription (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0F928-7AAB-4B8F-B197-CAC9E502960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2"/>
          <p:cNvGrpSpPr/>
          <p:nvPr/>
        </p:nvGrpSpPr>
        <p:grpSpPr>
          <a:xfrm>
            <a:off x="614520" y="1168560"/>
            <a:ext cx="5327280" cy="2349360"/>
            <a:chOff x="614520" y="1168560"/>
            <a:chExt cx="5327280" cy="2349360"/>
          </a:xfrm>
        </p:grpSpPr>
        <p:pic>
          <p:nvPicPr>
            <p:cNvPr id="204" name="Picture 3" descr=""/>
            <p:cNvPicPr/>
            <p:nvPr/>
          </p:nvPicPr>
          <p:blipFill>
            <a:blip r:embed="rId1"/>
            <a:stretch/>
          </p:blipFill>
          <p:spPr>
            <a:xfrm>
              <a:off x="1098360" y="1168560"/>
              <a:ext cx="34657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4"/>
            <p:cNvSpPr/>
            <p:nvPr/>
          </p:nvSpPr>
          <p:spPr>
            <a:xfrm>
              <a:off x="614520" y="1912320"/>
              <a:ext cx="18993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aboli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5"/>
            <p:cNvSpPr/>
            <p:nvPr/>
          </p:nvSpPr>
          <p:spPr>
            <a:xfrm>
              <a:off x="2464560" y="1993320"/>
              <a:ext cx="142020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6"/>
            <p:cNvSpPr/>
            <p:nvPr/>
          </p:nvSpPr>
          <p:spPr>
            <a:xfrm>
              <a:off x="1261800" y="2992680"/>
              <a:ext cx="17089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iration (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3241080" y="2992680"/>
              <a:ext cx="20152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rmen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032720" y="1985400"/>
              <a:ext cx="1909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cription (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Line 9"/>
          <p:cNvSpPr/>
          <p:nvPr/>
        </p:nvSpPr>
        <p:spPr>
          <a:xfrm>
            <a:off x="2892600" y="2408400"/>
            <a:ext cx="974520" cy="63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2889360" y="1346040"/>
            <a:ext cx="1440" cy="712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 flipH="1">
            <a:off x="1455480" y="1390680"/>
            <a:ext cx="1455480" cy="527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9B945-0155-4BD8-BD1C-E2553FFA350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614520" y="1168560"/>
            <a:ext cx="5327280" cy="2349360"/>
            <a:chOff x="614520" y="1168560"/>
            <a:chExt cx="5327280" cy="2349360"/>
          </a:xfrm>
        </p:grpSpPr>
        <p:pic>
          <p:nvPicPr>
            <p:cNvPr id="216" name="Picture 3" descr=""/>
            <p:cNvPicPr/>
            <p:nvPr/>
          </p:nvPicPr>
          <p:blipFill>
            <a:blip r:embed="rId1"/>
            <a:stretch/>
          </p:blipFill>
          <p:spPr>
            <a:xfrm>
              <a:off x="1098360" y="1168560"/>
              <a:ext cx="34657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4"/>
            <p:cNvSpPr/>
            <p:nvPr/>
          </p:nvSpPr>
          <p:spPr>
            <a:xfrm>
              <a:off x="614520" y="1912320"/>
              <a:ext cx="18993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aboli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5"/>
            <p:cNvSpPr/>
            <p:nvPr/>
          </p:nvSpPr>
          <p:spPr>
            <a:xfrm>
              <a:off x="2464560" y="1993320"/>
              <a:ext cx="142020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61800" y="2992680"/>
              <a:ext cx="17089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iration (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3241080" y="2992680"/>
              <a:ext cx="20152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rmen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4032720" y="1985400"/>
              <a:ext cx="1909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cription (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Line 9"/>
          <p:cNvSpPr/>
          <p:nvPr/>
        </p:nvSpPr>
        <p:spPr>
          <a:xfrm>
            <a:off x="2892600" y="2408400"/>
            <a:ext cx="974520" cy="63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2889360" y="1346040"/>
            <a:ext cx="1440" cy="712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 flipH="1">
            <a:off x="1455480" y="1390680"/>
            <a:ext cx="1455480" cy="527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2" descr=""/>
          <p:cNvPicPr/>
          <p:nvPr/>
        </p:nvPicPr>
        <p:blipFill>
          <a:blip r:embed="rId2"/>
          <a:stretch/>
        </p:blipFill>
        <p:spPr>
          <a:xfrm>
            <a:off x="6761160" y="1600200"/>
            <a:ext cx="2011320" cy="34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"/>
          <p:cNvPicPr/>
          <p:nvPr/>
        </p:nvPicPr>
        <p:blipFill>
          <a:blip r:embed="rId3"/>
          <a:stretch/>
        </p:blipFill>
        <p:spPr>
          <a:xfrm>
            <a:off x="6016680" y="2057400"/>
            <a:ext cx="280044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1F6A0-5F2B-420A-9F8E-BFE6FE925D3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98720" y="1168560"/>
            <a:ext cx="3466800" cy="2350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614520" y="1913040"/>
            <a:ext cx="1900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65280" y="1994040"/>
            <a:ext cx="14209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262160" y="2994120"/>
            <a:ext cx="1709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ion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241800" y="2994120"/>
            <a:ext cx="201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033800" y="1986120"/>
            <a:ext cx="1909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ription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2892600" y="2408400"/>
            <a:ext cx="974520" cy="63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2889360" y="1346040"/>
            <a:ext cx="1440" cy="712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H="1">
            <a:off x="1455480" y="1390680"/>
            <a:ext cx="1455480" cy="527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2"/>
          <a:stretch/>
        </p:blipFill>
        <p:spPr>
          <a:xfrm>
            <a:off x="6761160" y="1600200"/>
            <a:ext cx="2011320" cy="347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"/>
          <p:cNvPicPr/>
          <p:nvPr/>
        </p:nvPicPr>
        <p:blipFill>
          <a:blip r:embed="rId3"/>
          <a:stretch/>
        </p:blipFill>
        <p:spPr>
          <a:xfrm>
            <a:off x="6016680" y="2057400"/>
            <a:ext cx="2800440" cy="485640"/>
          </a:xfrm>
          <a:prstGeom prst="rect">
            <a:avLst/>
          </a:prstGeom>
          <a:ln w="0">
            <a:noFill/>
          </a:ln>
        </p:spPr>
      </p:pic>
      <p:sp>
        <p:nvSpPr>
          <p:cNvPr id="240" name="Line 13"/>
          <p:cNvSpPr/>
          <p:nvPr/>
        </p:nvSpPr>
        <p:spPr>
          <a:xfrm flipH="1">
            <a:off x="1455480" y="1355760"/>
            <a:ext cx="1455480" cy="527040"/>
          </a:xfrm>
          <a:prstGeom prst="line">
            <a:avLst/>
          </a:prstGeom>
          <a:ln w="3672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2852640" y="1346040"/>
            <a:ext cx="1800" cy="71280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 flipH="1">
            <a:off x="2052720" y="2409840"/>
            <a:ext cx="844560" cy="56196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16" descr=""/>
          <p:cNvPicPr/>
          <p:nvPr/>
        </p:nvPicPr>
        <p:blipFill>
          <a:blip r:embed="rId4"/>
          <a:stretch/>
        </p:blipFill>
        <p:spPr>
          <a:xfrm>
            <a:off x="6004080" y="2635200"/>
            <a:ext cx="283824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BFE76-73D5-49E3-88C6-E081CED8665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98720" y="1168560"/>
            <a:ext cx="3466800" cy="2350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14520" y="1913040"/>
            <a:ext cx="1900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465280" y="1994040"/>
            <a:ext cx="14209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262160" y="2994120"/>
            <a:ext cx="1709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ion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241800" y="2994120"/>
            <a:ext cx="201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033800" y="1986120"/>
            <a:ext cx="1909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ription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2892600" y="2408400"/>
            <a:ext cx="974520" cy="63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>
            <a:off x="2889360" y="1346040"/>
            <a:ext cx="1440" cy="712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 flipH="1">
            <a:off x="1455480" y="1390680"/>
            <a:ext cx="1455480" cy="527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6761160" y="1600200"/>
            <a:ext cx="2011320" cy="347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"/>
          <p:cNvPicPr/>
          <p:nvPr/>
        </p:nvPicPr>
        <p:blipFill>
          <a:blip r:embed="rId3"/>
          <a:stretch/>
        </p:blipFill>
        <p:spPr>
          <a:xfrm>
            <a:off x="6016680" y="2057400"/>
            <a:ext cx="2800440" cy="485640"/>
          </a:xfrm>
          <a:prstGeom prst="rect">
            <a:avLst/>
          </a:prstGeom>
          <a:ln w="0">
            <a:noFill/>
          </a:ln>
        </p:spPr>
      </p:pic>
      <p:sp>
        <p:nvSpPr>
          <p:cNvPr id="257" name="Line 13"/>
          <p:cNvSpPr/>
          <p:nvPr/>
        </p:nvSpPr>
        <p:spPr>
          <a:xfrm flipH="1">
            <a:off x="1455480" y="1355760"/>
            <a:ext cx="1455480" cy="527040"/>
          </a:xfrm>
          <a:prstGeom prst="line">
            <a:avLst/>
          </a:prstGeom>
          <a:ln w="3672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2852640" y="1346040"/>
            <a:ext cx="1800" cy="71280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2052720" y="2409840"/>
            <a:ext cx="844560" cy="56196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6" descr=""/>
          <p:cNvPicPr/>
          <p:nvPr/>
        </p:nvPicPr>
        <p:blipFill>
          <a:blip r:embed="rId4"/>
          <a:stretch/>
        </p:blipFill>
        <p:spPr>
          <a:xfrm>
            <a:off x="6004080" y="2635200"/>
            <a:ext cx="2838240" cy="51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1" name="Object 17"/>
              <p:cNvSpPr txBox="1"/>
              <p:nvPr/>
            </p:nvSpPr>
            <p:spPr>
              <a:xfrm>
                <a:off x="990720" y="4421160"/>
                <a:ext cx="28429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8"/>
              <p:cNvSpPr txBox="1"/>
              <p:nvPr/>
            </p:nvSpPr>
            <p:spPr>
              <a:xfrm>
                <a:off x="4343400" y="4540320"/>
                <a:ext cx="4648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9"/>
              <p:cNvSpPr txBox="1"/>
              <p:nvPr/>
            </p:nvSpPr>
            <p:spPr>
              <a:xfrm>
                <a:off x="5638680" y="5519880"/>
                <a:ext cx="3070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Text Box 20"/>
          <p:cNvSpPr/>
          <p:nvPr/>
        </p:nvSpPr>
        <p:spPr>
          <a:xfrm>
            <a:off x="4800600" y="6554880"/>
            <a:ext cx="43434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s et al., Machine Learning 73(2):185-214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88F3A-0878-4895-BAA3-AE4ABBF3D9D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914400" y="113976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af stores the mean label: proportion of the examples belonging to each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is made by using user-defined thresh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914400" y="4011480"/>
            <a:ext cx="7156080" cy="2238120"/>
            <a:chOff x="914400" y="4011480"/>
            <a:chExt cx="7156080" cy="2238120"/>
          </a:xfrm>
        </p:grpSpPr>
        <p:pic>
          <p:nvPicPr>
            <p:cNvPr id="269" name="Picture 4" descr=""/>
            <p:cNvPicPr/>
            <p:nvPr/>
          </p:nvPicPr>
          <p:blipFill>
            <a:blip r:embed="rId1"/>
            <a:stretch/>
          </p:blipFill>
          <p:spPr>
            <a:xfrm>
              <a:off x="1371240" y="4011480"/>
              <a:ext cx="6399360" cy="13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5"/>
            <p:cNvSpPr/>
            <p:nvPr/>
          </p:nvSpPr>
          <p:spPr>
            <a:xfrm>
              <a:off x="914400" y="5247360"/>
              <a:ext cx="2056680" cy="10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enyl nucleotide binding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 serine/threonine kinase activ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6"/>
            <p:cNvSpPr/>
            <p:nvPr/>
          </p:nvSpPr>
          <p:spPr>
            <a:xfrm>
              <a:off x="4558320" y="5258160"/>
              <a:ext cx="2056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modulin binding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lation elongation factor activity</a:t>
              </a: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3885480" y="5202720"/>
              <a:ext cx="456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7613640" y="5226480"/>
              <a:ext cx="4568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C5C65-62C0-48E3-A96D-69E2F595E5C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0C32C-4AE1-4FA9-8584-6D037EBE245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nsemble Method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719280" y="1305000"/>
            <a:ext cx="79675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s are set of predictiv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Unstable base class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schemes to combine the predictions into a single pred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 learning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odification of the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odification of the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93ED5-373F-48EF-B0EE-7E06F30CDE1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nsemble Method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719280" y="1305000"/>
            <a:ext cx="79675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s are set of predictiv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Unstable base class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schemes to combine the predictions into a single pred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 learning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odification of the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odification of the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257800" y="5138640"/>
            <a:ext cx="1828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Ba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5095440" y="5378400"/>
            <a:ext cx="466920" cy="1800"/>
          </a:xfrm>
          <a:prstGeom prst="line">
            <a:avLst/>
          </a:prstGeom>
          <a:ln w="936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7086600" y="52578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3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386480" y="4921200"/>
            <a:ext cx="15289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B844A-1A9C-4496-8D6C-FB1D7FA455D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nsemble Methods: Algorith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398600" y="1359000"/>
            <a:ext cx="6373800" cy="4813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5486400" y="6508800"/>
            <a:ext cx="36576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from van Assche, PhD Thesis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3D79D-4BA6-455A-AF7A-656855F9A6A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719280" y="1305000"/>
            <a:ext cx="7967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amounts of structur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Ve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Hierarchies – trees, DAGs,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equences – time series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751360" y="1792440"/>
            <a:ext cx="320544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5C88C-39DF-4ACF-B90C-D0325014440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nsembles for structured outpu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609480" y="1176480"/>
            <a:ext cx="80773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Ts as base class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schemes for the structured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T Classification: majority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probability distribution vo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T Regression and HMLC: averag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For an arbitrary structure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prototype calculation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A7033-CF2D-4A4A-93F0-B1D60A01AFE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C4AAC-2595-487A-B812-113BAD1DADF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708120" y="1521000"/>
            <a:ext cx="84358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base classifiers are enough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nsembles of PCTs lift the predictive performance of a single P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nsembles of PCTs are better than ensembles for each sub-component separate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pproach is more efficient in terms of time and size of the mode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Experimental hypothes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8441D-6462-4C81-9DE9-F0BD0657D18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Datase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12960" y="1325520"/>
          <a:ext cx="7726320" cy="1708200"/>
        </p:xfrm>
        <a:graphic>
          <a:graphicData uri="http://schemas.openxmlformats.org/drawingml/2006/table">
            <a:tbl>
              <a:tblPr/>
              <a:tblGrid>
                <a:gridCol w="1930320"/>
                <a:gridCol w="1109520"/>
                <a:gridCol w="1379520"/>
                <a:gridCol w="2227320"/>
                <a:gridCol w="1079640"/>
              </a:tblGrid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as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tive attrib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ze of Out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T Reg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4..606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.1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.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T Class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4..103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.2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.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8..1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.744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.5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303" name="Text Box 61"/>
          <p:cNvSpPr/>
          <p:nvPr/>
        </p:nvSpPr>
        <p:spPr>
          <a:xfrm>
            <a:off x="709560" y="3105000"/>
            <a:ext cx="83502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sets with multiple targ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Mainly environmental data acquired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U and Slovenian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mage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ext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unctional geno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D5A93-C56D-4170-9AF1-AB6C055990C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xperimental desig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709560" y="1106640"/>
            <a:ext cx="8434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s of mod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CTs and ST trees (with F-test pru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nsembles of PCTs and ensembles of ST t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Ts for HMLC weight for the distance - 0.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base classifiers (unprune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lassification: 10, 25, 50, 75, 100, 250, 500,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egression: 10, 25, 50, 75, 100, 150,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MLC: 10, 25, 50, 75,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F37A4-C80E-4045-B39B-DDC09DAC2D4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xperimental design (ctd.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671400" y="1371600"/>
            <a:ext cx="84726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forest – feature subset s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ultiple Targets: 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MLC: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-fold cross-valid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 Classification - Accura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 Regression - correlation coefficient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MSE, RRMS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L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ision-Recall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PR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ves, Area unde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C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dman and Nemenyi statistical t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F1DCA-1494-4D87-BB41-D50D682DC1E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recision-Recall Curv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71400" y="939960"/>
            <a:ext cx="90360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 curve plots Precision as a function of the Rec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 curves per cl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icro-averaging: Area under the average PR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acro-averaging: Average area under the PR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1609560" y="1252440"/>
                <a:ext cx="2314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+F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4600440" y="1222200"/>
                <a:ext cx="20383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+F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799D1-7B05-457F-BA46-0893863573E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recision-Recall Curv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671400" y="939960"/>
            <a:ext cx="90360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 curve plots Precision as a function of the Rec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 curves per cl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icro-averaging: Area under the average PR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acro-averaging: Average area under the PR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609560" y="1252440"/>
                <a:ext cx="2314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+F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4600440" y="1222200"/>
                <a:ext cx="20383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+F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200400" cy="24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4C801-79E9-4F44-9D8B-E0CE2E87AD7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Regression (RRMSE)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Bagging                                           ST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914400" y="1809720"/>
            <a:ext cx="3657600" cy="1654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5257800" y="1846440"/>
            <a:ext cx="3657600" cy="16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9369D-C2D7-4934-AF86-4DFFBE53D1D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Regression (RRMSE)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Bagging                                           ST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914400" y="1809720"/>
            <a:ext cx="3657600" cy="1654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5257800" y="1846440"/>
            <a:ext cx="3657600" cy="16189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5"/>
          <p:cNvSpPr/>
          <p:nvPr/>
        </p:nvSpPr>
        <p:spPr>
          <a:xfrm>
            <a:off x="974880" y="3778200"/>
            <a:ext cx="7940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Random forest                               ST Random fo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3657600" cy="1619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4"/>
          <a:stretch/>
        </p:blipFill>
        <p:spPr>
          <a:xfrm>
            <a:off x="5257800" y="4307040"/>
            <a:ext cx="365760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C1308-252E-4A94-9E61-13376594E00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719280" y="1305000"/>
            <a:ext cx="7967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amounts of structur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Ve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Hierarchies – trees, DAGs,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equences – time series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ensemble methods in simple classification and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751360" y="1792440"/>
            <a:ext cx="320544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0F9BE-AEE3-4A9C-9D6B-67EEF1E719C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Regression (RRMSE)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57400" y="1227240"/>
            <a:ext cx="4572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8284B-859C-4A94-B926-C937A8EF47E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Regression (RRMSE)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057400" y="1227240"/>
            <a:ext cx="4572000" cy="2057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685800" y="3681360"/>
            <a:ext cx="845820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 Ensembles perform better t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ingle MT tree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T Ensem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aster to learn than ST ensembles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maller models than ST ensembles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51742-C75E-4884-8E7D-6A5AB9A1F12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Classification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Bagging                                           ST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722160" y="1955880"/>
            <a:ext cx="3886200" cy="1490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5029200" y="1938240"/>
            <a:ext cx="3886200" cy="14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E6204-8F32-4169-8D42-036AD7E56CD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Classification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Bagging                                           ST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974880" y="3849840"/>
            <a:ext cx="7940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Random forest                               ST Random fo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722160" y="1955880"/>
            <a:ext cx="3886200" cy="1490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5029200" y="1938240"/>
            <a:ext cx="3886200" cy="14907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3886200" cy="1736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4"/>
          <a:stretch/>
        </p:blipFill>
        <p:spPr>
          <a:xfrm>
            <a:off x="5065560" y="4654440"/>
            <a:ext cx="38862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9815E-3F82-4340-A152-6E271D42961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Classification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286000" y="1344600"/>
            <a:ext cx="4572000" cy="20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A489C-DC65-4FEE-9C7F-DCC5B8929E6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Classification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685800" y="3681360"/>
            <a:ext cx="845820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 Ensembles perform better t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ingle MT tree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aster to learn than ST ensembles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maller models than ST ensembles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 Bagging is better than ST Bagging, while MT random forest is worse than ST random f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2286000" y="1344600"/>
            <a:ext cx="4572000" cy="20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FE5AF-63D3-4FA0-9301-BDD1EA2B0EA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LC Bagging                                    HSLC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886200" cy="1179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88620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C12C6-600A-4E74-8784-978D133B948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LC Bagging                                    HSLC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974880" y="3849840"/>
            <a:ext cx="7940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LC Random forest                          HSLC Random fo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886200" cy="1179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886200" cy="118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"/>
          <p:cNvPicPr/>
          <p:nvPr/>
        </p:nvPicPr>
        <p:blipFill>
          <a:blip r:embed="rId3"/>
          <a:stretch/>
        </p:blipFill>
        <p:spPr>
          <a:xfrm>
            <a:off x="685800" y="4591080"/>
            <a:ext cx="3886200" cy="1123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"/>
          <p:cNvPicPr/>
          <p:nvPr/>
        </p:nvPicPr>
        <p:blipFill>
          <a:blip r:embed="rId4"/>
          <a:stretch/>
        </p:blipFill>
        <p:spPr>
          <a:xfrm>
            <a:off x="5029200" y="4572000"/>
            <a:ext cx="388620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B0BB2-6E41-4E8A-9CBF-66643B98DA1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HMLC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357280" y="1471680"/>
            <a:ext cx="457200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26A02-4133-4DA4-81D2-295DBC58944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HMLC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685800" y="3681360"/>
            <a:ext cx="845820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LC Ensembles perform better th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ingle HMLC tree (stat. sign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faster to learn than HSLC ensembles (stat. sign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maller models than HSLC ensembles (stat. sign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LC Bagging is better than HSLC Bagging, while HMLC random forest is worse than HSLC random for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2357280" y="1471680"/>
            <a:ext cx="457200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F457D-EAC5-4C39-BD79-C2FAB2F619A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3C714-9CC5-42AE-9440-7D045BB8BB7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- Summa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784080" y="1371600"/>
            <a:ext cx="8436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s of P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significantly better than single P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better than ensembles for the sub-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and faster to learn than the ensembles for the sub-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multiple targets the ratio is ~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HMLC the ratio is ~ 4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CAC26-6129-4C1C-A920-D7411C0AA6C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5F5BF-AA02-42B2-8620-71D6FC47565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Ensembles of PCTs - functional genomic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685800" y="1414440"/>
            <a:ext cx="82296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ic prediction of the multiple functions of the ORFs in a gen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for HMLC compared with state-of-the-art approach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sets for three organis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. Cerevisae, A. Thaliana and M. muscul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annotation sche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FunCAT and GO (Gene Ontolog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5257800" y="6554880"/>
            <a:ext cx="388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tgat et al., BMC Bioinformatics 11:2,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61704-1BB4-476B-9774-AE11ABB280B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Background – network based approach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601560" y="1414440"/>
            <a:ext cx="86868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ge of known functions of genes nearby in a functional association networ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F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Chen and Xu, 2004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M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Mostafavi et al., 2008) – combines multiple networks from genomic and proteom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I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Kim et al., 2008) – combines predictions of a network with predictions from Naïve Bay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ckenste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ian et al., 2008) – logistic regression to combine predictions from network and random for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023CF-55E8-4AFA-A05B-4DFE0BB78BE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Background – kernel based approach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L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Lee et al., 2006) – combination of Markov random fields and SVMs with diffusion kernels and using them in kernel logistic reg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SV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Obozinski et al., 2008) – SVM for each function separately, and then reconciliated to enforce the hierarchy constrai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SV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Barutcuoglu et al., 2006) – SVM for each function separately, then predictions combined using a Bayesian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SVM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Guan et al., 2008) – extension of BSVM, uses Naïve Bayes to combine results over the data sour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9562F-A978-42BC-A2D8-E96FF392F71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Datase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ccharomyces Cerevisiae (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quence statistics, phenotype, secondary structure, homology and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bidopsis Thaliana (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quence statistics, expression, predicted SCOP class, predicted secondary structure, InterPro and hom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ach dataset annotated with FunCAT and 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 Musculus (D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ouseFunc challenge, various data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E51A9-DF96-4D9A-A453-99F3008D74E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Experimental hypothe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ther Bagging of PCTs are better than single PCT for HMLC and C4.5/H? (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Bagging of PCTs with BSVM on 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Bagging of PCTs with the approaches from MouseFunc Challenge (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07213-46B1-4329-89A5-3403F16F5D3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Bagging of PCTs vs. PC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A56D1-85FB-43A3-9216-806EFFCFF4B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Bagging vs. PCTs vs. C4.5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400800" cy="34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9817F-87B1-4B58-88BD-508EC2EAAA2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Bagging of PCTs vs. BSV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ison by AURO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erage over the AUROC for all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Bagging of PCTs: 0.87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BSVM: 0.85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scores better on 73 of the 105 GO functions than BSVM (p = 4.37</a:t>
            </a:r>
            <a:r>
              <a:rPr b="0" lang="en-US" sz="2600" spc="-1" strike="noStrike">
                <a:solidFill>
                  <a:srgbClr val="000000"/>
                </a:solidFill>
                <a:latin typeface="DejaVu Sans"/>
              </a:rPr>
              <a:t>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 baseline="33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BC5A1-BF32-4DE0-A9C0-27B39E07FF0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Structured outpu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719280" y="1305000"/>
            <a:ext cx="7967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in supervise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ingle discrete or continuous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in structured 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Vector of discrete or continuous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ierarchy – tree or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quences – time s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-composition to simpler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xploitation of th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43EEC-ADBB-4E1C-B56B-552F1353687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MouseFunc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eams use different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of the dat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Three branches of GO (BP, MF and CC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Four ranges of specificity: number of genes by which each term is annotated with (3-10, 11-30, 31-100 and 101-30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3465360" y="1517760"/>
                <a:ext cx="38862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C</m:t>
                            </m:r>
                          </m:e>
                        </m:bar>
                      </m:e>
                    </m:d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UPRC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URO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335B5-2E60-46DA-BDEC-D87B282EA55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MouseFunc (2)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722160" y="3429000"/>
            <a:ext cx="868680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i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better (p &lt; 0.01) than BSVM+, CSVM, GeneFAS and K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better than KLR and Gene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worse (p &lt; 0.01) than Funckenste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tretch/>
        </p:blipFill>
        <p:spPr>
          <a:xfrm>
            <a:off x="685800" y="1636560"/>
            <a:ext cx="82296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4114800" y="1252440"/>
                <a:ext cx="1371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C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3E11D-2C5D-422D-99B7-F0F77218637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MouseFunc (3)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722160" y="3429000"/>
            <a:ext cx="842184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i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better (p &lt; 0.01) than K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ot different from BSVM+, KLR, CSVM, GeneF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worse (p &lt; 0.01) than Funckenstein and Gene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4114800" y="1252440"/>
                <a:ext cx="1096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UPR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685800" y="1636560"/>
            <a:ext cx="82296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119C8-A76E-4F58-AD8F-D3D16F2D92D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MouseFunc (4)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722160" y="3429000"/>
            <a:ext cx="842184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i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ot different from KLR, CSVM, GeneFAS and K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worse (p &lt; 0.01) than Funckenstein, BSVM+ and Gene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4114800" y="1252440"/>
                <a:ext cx="1128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URO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685800" y="1636560"/>
            <a:ext cx="822960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92AC5-5B22-4E0F-BA24-65971947575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Summary – Functional genomic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outperforms single PCT and C4.5H/M (Clare, 200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outperforms a statistical learner based on SVMs (BSVM) for S. Cerevisia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is competitive to statistical and network based methods for the M. Musculus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ECAD2-71FB-4098-B8A1-32F8011821C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C27A7-35AE-4DCD-8EEE-7E558EFDA30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ft the predictive performance of single P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han ensembles for each of the sub-component of the outp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tive with state-of-the-art approaches in functional genom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ility to wide range of probl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26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Different type and sizes of outp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26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mall and large datas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26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26880">
              <a:lnSpc>
                <a:spcPct val="100000"/>
              </a:lnSpc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3DB0A-026E-4B50-9ED1-1307C9F6F21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57200" y="2836800"/>
            <a:ext cx="8686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Schoolbook L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4859280" y="4592520"/>
                <a:ext cx="1317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AAF0A-CB95-4D98-8562-2ACF8531888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redictive Clustering Tre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744480" y="1447920"/>
            <a:ext cx="83995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601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Top-Down Induction of D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erarchy of clu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ance measure: minimization of intra-cluster vari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antiation of the variance for different tas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371600" y="3909960"/>
            <a:ext cx="66200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2799F-2B9B-4A38-A987-7B2CA718708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– Multiple numeric targe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685800" y="1300320"/>
            <a:ext cx="81342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of vegetation in Victoria,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at Hectares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Large Trees, Tree Canopy Cover, Understorey, Litter, Logs, Weeds and Recruit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clidean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4486320" y="5630760"/>
                <a:ext cx="41241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600200" y="3365640"/>
            <a:ext cx="2743200" cy="2120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4800600" y="3365640"/>
            <a:ext cx="2743200" cy="2120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114800" y="6554880"/>
            <a:ext cx="5029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cev et al., Ecological Modelling 220(8):1159-1168,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12BA2-8CFB-4571-81B9-615883C0EFE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– Multiple discrete targe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781200" y="1557360"/>
            <a:ext cx="81342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 – Slovenian media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8000 Questionnaires about reading and TV habits and life style of Sloven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people re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Delo, Dnevnik, Ekipa, Slovenske Novice, Več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2209680" y="5208480"/>
                <a:ext cx="42991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Gin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270160" y="4309920"/>
                <a:ext cx="5121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ntrop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Text Box 5"/>
          <p:cNvSpPr/>
          <p:nvPr/>
        </p:nvSpPr>
        <p:spPr>
          <a:xfrm>
            <a:off x="5257800" y="6554880"/>
            <a:ext cx="388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ranjc et al., Informatica 25(3):357-363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3CEFE-06D8-43EA-A69F-FED7A75D69D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2"/>
          <p:cNvGrpSpPr/>
          <p:nvPr/>
        </p:nvGrpSpPr>
        <p:grpSpPr>
          <a:xfrm>
            <a:off x="614520" y="1168560"/>
            <a:ext cx="5108040" cy="2349360"/>
            <a:chOff x="614520" y="1168560"/>
            <a:chExt cx="5108040" cy="2349360"/>
          </a:xfrm>
        </p:grpSpPr>
        <p:pic>
          <p:nvPicPr>
            <p:cNvPr id="186" name="Picture 3" descr=""/>
            <p:cNvPicPr/>
            <p:nvPr/>
          </p:nvPicPr>
          <p:blipFill>
            <a:blip r:embed="rId1"/>
            <a:stretch/>
          </p:blipFill>
          <p:spPr>
            <a:xfrm>
              <a:off x="1098360" y="1168560"/>
              <a:ext cx="34657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4"/>
            <p:cNvSpPr/>
            <p:nvPr/>
          </p:nvSpPr>
          <p:spPr>
            <a:xfrm>
              <a:off x="614520" y="1912320"/>
              <a:ext cx="16581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bolis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5"/>
            <p:cNvSpPr/>
            <p:nvPr/>
          </p:nvSpPr>
          <p:spPr>
            <a:xfrm>
              <a:off x="2464560" y="1993320"/>
              <a:ext cx="109656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1261800" y="2992680"/>
              <a:ext cx="13708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7"/>
            <p:cNvSpPr/>
            <p:nvPr/>
          </p:nvSpPr>
          <p:spPr>
            <a:xfrm>
              <a:off x="3240720" y="2992680"/>
              <a:ext cx="16898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rment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4032720" y="1985400"/>
              <a:ext cx="16898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kocev</cp:lastModifiedBy>
  <dcterms:modified xsi:type="dcterms:W3CDTF">2010-02-02T09:01:01Z</dcterms:modified>
  <cp:revision>118</cp:revision>
  <dc:subject/>
  <dc:title>Simple Blue</dc:title>
</cp:coreProperties>
</file>