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9.png" ContentType="image/png"/>
  <Override PartName="/ppt/media/image6.png" ContentType="image/png"/>
  <Override PartName="/ppt/media/image26.png" ContentType="image/png"/>
  <Override PartName="/ppt/media/image3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wmf" ContentType="image/x-wmf"/>
  <Override PartName="/ppt/media/image5.jpeg" ContentType="image/jpeg"/>
  <Override PartName="/ppt/media/image4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0" y="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70440" y="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0800" y="696960"/>
            <a:ext cx="4632120" cy="34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591160" cy="4167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72CEB-FC1B-4839-B7CF-F085212DF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EAB70-FBF8-4F23-AC73-394600EBA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F9892-E1B8-467F-B271-87F5EDA90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E7930-28A7-4B62-ADE8-FC8B9A05B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D1872-96A6-4AB2-97D8-34940A10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5FBB9-CADC-428E-836D-C49BEA3C9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ADDED-750E-421A-BBD9-2088779A3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6B36A-E07F-4EFB-93A2-634797E89B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6EECB-D6CA-41D9-B032-7C01121CB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62A52-C812-4FF0-AACD-816D08D2CD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A39FF-9670-4597-9CB2-5C1D5698E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5D14B-2F5C-4B31-8E01-BCA08EF65A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A5367-AF55-446F-A1EF-AEF46C05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3D09A-9DFA-4A10-BC58-3E72AFDF0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E984A-7109-4E96-B4E1-DBC34836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FC98E-1191-4267-A5C7-38C345C34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3DABF-A135-43DD-8D43-4CED6EA1F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2D979-093B-4E3B-A82F-E4907EB611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CDCE6-4C98-4E10-BB9D-E89E9695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1AF27-23D1-46EB-B097-C78BFFE49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56395-933A-41CD-8FD4-F597073A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B8AE6-78AA-4BE2-8675-E50F863CE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F1968-2DD4-4B13-9A76-57A68D78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A6B45-03E4-4C50-BDB9-CA855FDBA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0A6CF-B93E-417D-8390-40AA360E2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17B70-D2A7-4CC7-9FEC-DB9C9E3CE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90C58-694D-4E78-A54F-F24ED839D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5548D-4062-4345-A67C-39F6DBACE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F86A7-D4D8-4BE6-9AD5-C05BB2746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A7846-E476-4A22-B9F0-5183053502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FA890-C9C4-4ACE-B96D-E9F61AE43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7DA8C-3D8E-45E1-9A1D-8BACC489E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7C135-C270-486C-81B0-D94A37EF9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25D6B-5A50-4E6C-ACDB-74B41F6C8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733C2-2287-4B3A-AEC4-7B635A6E2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86A2B-2F8D-4A85-8533-4303C426A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B1687-D684-4C44-B5F3-EBF17B26B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34963-7847-4175-9212-A602A672E7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29802-B100-4EAF-A880-923445C2A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47596-AF9B-455D-B7DB-3146E0770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63C88-E11F-45EA-92EF-1E6BDC98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5A5F7-1854-4036-A371-B3A636C29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DCF21-C4F0-4E08-889A-7D282C098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C14B1-A8B3-4EFE-B79B-DD05CB221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A0A22-9C71-4F88-AC3B-1C766F06C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9C9F7-D109-434B-AAD7-A6F8C02E8E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6C6CD-2EE6-4B1B-A942-071B61FC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F24BA-123E-4B07-91DA-A31965300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02F00-B0D0-470D-8526-203CCA09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B13A4-111C-4252-8D19-7B5FB6CA5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CF49F-ADDE-49D5-8957-A3DF569C7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D675B-A2FC-40F4-9FAA-1A13ED354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87FFE-E434-4FA8-B930-6C409427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AC229-E75C-4EB4-91D0-48A8AEBAF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091CD-CC5D-414B-A2A2-02B1117CF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4F88E-844D-4A44-9547-2A7362F3F0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3F1A1-4740-48D2-9DD6-A76643249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D5EAC-EF7B-418D-9549-BA47C0AFCA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2112F-26C3-4C37-B121-66EB30A4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63F59-10AF-44EF-A000-2452F9225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8FC3B-3605-4DEC-BE2D-0CEB4C173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D4A7A-9E19-4F76-A86E-44CC14215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40A79-8747-442F-9C7E-4AF14C41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37DE5-C82E-4D1D-834E-29E09D7BB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FC033-C871-413A-A121-4D6CE6F2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1C49C-9421-4F8A-8614-6014666BB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CCB62-3A14-43BF-B05D-EF7AF76A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B2DFC-357B-4900-9154-C57FAC4CCF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7BE47-0CCD-4E5A-A351-7C56485C4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F65E3-8344-4B15-BA69-8457DCD63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72192-9A7D-4587-835F-DF664339B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7F71C-9572-4E7E-856A-757F2E0411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68A4E-3529-496D-A8C6-2D944EC0D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4EB0C-C8FF-4076-8B4D-E543D8407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3DFB1-4A01-48A7-90A0-68364D7F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0E590-74B6-441E-A48A-9A197A92F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C09A6-4017-4AF3-B34A-99CBF81B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92C02-B52B-4A86-BCED-2F215E05D5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5026D-8FB9-4E86-B06E-67CE588B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58F5D-1489-4DF8-A9C1-D17F71923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47546-5F7D-402A-A6D7-6E9A7963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C9E6-280B-4ED4-B71D-543ED83D3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093AC-7D31-4ED6-869A-5DFF702D2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5A9CD-5035-429F-B2DA-849B9B4B7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DFFF6-1DCE-4777-A5B3-6BEA09A4A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66C8-D7AE-4254-9905-4B56EAF95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FFA8E-EB3C-4AEA-9E87-77D41DA16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14370-9E03-422C-A9D5-E573011EC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027DA-47EF-41CC-B9CD-B9E6FA95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A9145-F4E5-49C3-A675-1FF33BD8E7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475B7-3F9A-4614-9A7E-2E00F12BB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00B9D-57B5-4F87-9BFD-8692EFFD1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A75F3-7D6D-43CD-9DFD-3CCD1010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09C9A-B094-456B-BE65-F54F8466D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87223-0D0C-4929-968E-30F01763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CD916-6D6C-4E47-AB67-DE2659AB7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56363-0A7F-459A-9517-E1D96557F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69583-04D3-437F-81E8-D7839998DC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49BB8-8516-43B4-B6DD-7E54348F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13B98-0236-4F65-9E90-802ED50547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F7B83-20ED-4D60-A8BA-819E85F0D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239D6-73C9-4F8E-8578-C0AEF001A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2B538-15D3-4B2B-B1A3-342B8F02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1861C-7D44-462E-BEC1-6994AD650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EFA16-0AC9-4396-9CA1-0BB5DDD6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F396D-4104-490F-BB2D-94A8754A8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0B3F6-F4C4-408A-84B9-BFF543E3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18116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F59B4-3F70-4156-BF80-6BB345708B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0C85A-3B5A-461C-ABD1-058F5F8EC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E9B71-8BBC-4AD7-B043-E39735BD9A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FE66A-774B-4D0C-B7D6-2070ECF6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35680-9DEE-46BC-83FA-CBE489658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39A70-1FE5-4D65-8D7D-BCE7FC65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6"/>
          <p:cNvSpPr/>
          <p:nvPr/>
        </p:nvSpPr>
        <p:spPr>
          <a:xfrm>
            <a:off x="3970440" y="8829720"/>
            <a:ext cx="302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A67F9-EE2A-42F5-A648-75CC06809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970440" y="882972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80A79-F1C8-4A30-9E45-B6E72157B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59296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B02B-CCB1-428A-BFB2-C93CA6051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C6E7-33A7-4EE2-BC19-DF770CA52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FEBE-38A4-40A4-91BB-EBF5F76AD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812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660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0812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660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9204-F453-4E24-A449-987A486BA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F339-AE43-4658-9E7F-A9E9DD821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FEC4-B26E-4120-AB53-68FF845DBF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4685-77AF-4655-ACAA-2CDD399838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70C5-78DA-4F36-B097-8066B3342B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D1EC-4731-4413-98FF-DEDC1CF8E7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9280" y="0"/>
            <a:ext cx="7905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D4B4-22F5-4938-9D64-66D7B9E818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96F0-043C-46E7-9AAC-5371BA9BA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5C15-6E6A-46C7-9590-DD613FE83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EBC5-08C1-4190-8B26-024731C589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B620-DBC1-4BF4-BFA8-CE1CD16F39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4610-A526-4B7A-A940-8C275324D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CB34-0813-4EEE-8946-73E8EB4442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812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660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928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812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660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70BF-AA16-4E73-8DD5-D419AB1E03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354-ABE4-4A2B-8295-008814DFF2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805-A45C-427D-8974-C91A4F34A0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9CA-6A05-46A9-8B4C-6C9B430A48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6BA-B098-47EC-9656-71279A87FB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6FA-9F6A-4000-86E8-A8E051C1A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F196-AA3D-41A3-8CB7-1E7A7BC96A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19280" y="0"/>
            <a:ext cx="7905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7FD-68D1-48BB-9C3A-16FCBC5ED0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672-6B2B-4B07-B13C-E98C7DA7B0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409-C8E1-4B18-85B7-7FB4B35AC7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002-447F-4583-8FEB-A2ADC56F6E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F11-5F37-4DCB-8CEA-13DB08FF22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FFB-B359-4A1A-9766-BF25412577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0812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6600" y="130464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928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0812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96600" y="3929400"/>
            <a:ext cx="256032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712-C8F9-4F33-91BE-E12F8DC8A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ADAD-C3BC-431C-AD6A-21BF14A73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AF0C-CEE5-4189-BB6C-105F83C06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19280" y="0"/>
            <a:ext cx="7905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350F-8020-4C63-8C98-0A5E0DBBE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E7B9-5EC4-43EA-B1C8-19F3BA16B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3760" y="392940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111E-332D-490D-B5CE-60B30EC6C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3760" y="1304640"/>
            <a:ext cx="38800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29400"/>
            <a:ext cx="7951680" cy="23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6C9B-C430-451C-A0B3-75F256E8B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609480" cy="4508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80880" y="1049400"/>
            <a:ext cx="8302680" cy="179280"/>
            <a:chOff x="380880" y="1049400"/>
            <a:chExt cx="8302680" cy="179280"/>
          </a:xfrm>
        </p:grpSpPr>
        <p:sp>
          <p:nvSpPr>
            <p:cNvPr id="2" name="Rectangle 3"/>
            <p:cNvSpPr/>
            <p:nvPr/>
          </p:nvSpPr>
          <p:spPr>
            <a:xfrm>
              <a:off x="6855120" y="1049400"/>
              <a:ext cx="1828080" cy="179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380880" y="1122840"/>
              <a:ext cx="8302680" cy="1080"/>
            </a:xfrm>
            <a:prstGeom prst="line">
              <a:avLst/>
            </a:prstGeom>
            <a:ln w="1908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905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19280" y="1304640"/>
            <a:ext cx="79516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914400" y="6453360"/>
            <a:ext cx="1917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352680" y="645336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840000" y="6416280"/>
            <a:ext cx="18306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29242-8E79-499E-94A6-BFD5CF4D2D4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"/>
          <p:cNvSpPr/>
          <p:nvPr/>
        </p:nvSpPr>
        <p:spPr>
          <a:xfrm>
            <a:off x="0" y="4545000"/>
            <a:ext cx="609480" cy="144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0F585-C184-4BF1-9DD0-43096E709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55600" y="1160640"/>
            <a:ext cx="7772400" cy="243828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203480" y="1389240"/>
            <a:ext cx="7648560" cy="21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0" y="4869000"/>
            <a:ext cx="1763640" cy="1440"/>
          </a:xfrm>
          <a:prstGeom prst="line">
            <a:avLst/>
          </a:prstGeom>
          <a:ln w="5076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1356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12960" y="6251400"/>
            <a:ext cx="18936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354480" y="6248520"/>
            <a:ext cx="28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D6A26-B1CF-4105-9892-014D68ECD45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044720" y="1143000"/>
            <a:ext cx="8148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Ensembles for predicting structured outpu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95400" y="4479840"/>
            <a:ext cx="7521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i Koc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124080" y="5491080"/>
            <a:ext cx="315936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56678-954C-4CB3-9117-C38055CC43D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2"/>
          <p:cNvGrpSpPr/>
          <p:nvPr/>
        </p:nvGrpSpPr>
        <p:grpSpPr>
          <a:xfrm>
            <a:off x="614520" y="1168560"/>
            <a:ext cx="5327280" cy="2349360"/>
            <a:chOff x="614520" y="1168560"/>
            <a:chExt cx="5327280" cy="2349360"/>
          </a:xfrm>
        </p:grpSpPr>
        <p:pic>
          <p:nvPicPr>
            <p:cNvPr id="195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4"/>
            <p:cNvSpPr/>
            <p:nvPr/>
          </p:nvSpPr>
          <p:spPr>
            <a:xfrm>
              <a:off x="614520" y="1912320"/>
              <a:ext cx="1899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bolism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2464560" y="1993320"/>
              <a:ext cx="142020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ergy 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1261800" y="2992680"/>
              <a:ext cx="1708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 (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3241080" y="2992680"/>
              <a:ext cx="2015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rmentation (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032720" y="1985400"/>
              <a:ext cx="1909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 (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7A462-B459-49FC-8E89-56EFDBF96C8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614520" y="1168560"/>
            <a:ext cx="5327280" cy="2349360"/>
            <a:chOff x="614520" y="1168560"/>
            <a:chExt cx="5327280" cy="2349360"/>
          </a:xfrm>
        </p:grpSpPr>
        <p:pic>
          <p:nvPicPr>
            <p:cNvPr id="204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4"/>
            <p:cNvSpPr/>
            <p:nvPr/>
          </p:nvSpPr>
          <p:spPr>
            <a:xfrm>
              <a:off x="614520" y="1912320"/>
              <a:ext cx="1899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2464560" y="1993320"/>
              <a:ext cx="142020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6"/>
            <p:cNvSpPr/>
            <p:nvPr/>
          </p:nvSpPr>
          <p:spPr>
            <a:xfrm>
              <a:off x="1261800" y="2992680"/>
              <a:ext cx="1708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 (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3241080" y="2992680"/>
              <a:ext cx="2015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rmen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032720" y="1985400"/>
              <a:ext cx="1909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 (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Line 9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43247-D2FF-42A6-BDAD-D2237EDE013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614520" y="1168560"/>
            <a:ext cx="5327280" cy="2349360"/>
            <a:chOff x="614520" y="1168560"/>
            <a:chExt cx="5327280" cy="2349360"/>
          </a:xfrm>
        </p:grpSpPr>
        <p:pic>
          <p:nvPicPr>
            <p:cNvPr id="216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4"/>
            <p:cNvSpPr/>
            <p:nvPr/>
          </p:nvSpPr>
          <p:spPr>
            <a:xfrm>
              <a:off x="614520" y="1912320"/>
              <a:ext cx="1899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5"/>
            <p:cNvSpPr/>
            <p:nvPr/>
          </p:nvSpPr>
          <p:spPr>
            <a:xfrm>
              <a:off x="2464560" y="1993320"/>
              <a:ext cx="142020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61800" y="2992680"/>
              <a:ext cx="1708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 (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3241080" y="2992680"/>
              <a:ext cx="2015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rmen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4032720" y="1985400"/>
              <a:ext cx="1909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 (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Line 9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2"/>
          <a:stretch/>
        </p:blipFill>
        <p:spPr>
          <a:xfrm>
            <a:off x="6761160" y="1600200"/>
            <a:ext cx="2011320" cy="34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6016680" y="2057400"/>
            <a:ext cx="280044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38D3E-A428-47B9-AFA9-85E3B6320A3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98720" y="1168560"/>
            <a:ext cx="3466800" cy="2350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614520" y="1913040"/>
            <a:ext cx="1900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65280" y="1994040"/>
            <a:ext cx="14209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262160" y="2994120"/>
            <a:ext cx="1709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ion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241800" y="2994120"/>
            <a:ext cx="201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033800" y="1986120"/>
            <a:ext cx="1909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ion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2"/>
          <a:stretch/>
        </p:blipFill>
        <p:spPr>
          <a:xfrm>
            <a:off x="6761160" y="1600200"/>
            <a:ext cx="2011320" cy="347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"/>
          <p:cNvPicPr/>
          <p:nvPr/>
        </p:nvPicPr>
        <p:blipFill>
          <a:blip r:embed="rId3"/>
          <a:stretch/>
        </p:blipFill>
        <p:spPr>
          <a:xfrm>
            <a:off x="6016680" y="2057400"/>
            <a:ext cx="2800440" cy="485640"/>
          </a:xfrm>
          <a:prstGeom prst="rect">
            <a:avLst/>
          </a:prstGeom>
          <a:ln w="0">
            <a:noFill/>
          </a:ln>
        </p:spPr>
      </p:pic>
      <p:sp>
        <p:nvSpPr>
          <p:cNvPr id="240" name="Line 13"/>
          <p:cNvSpPr/>
          <p:nvPr/>
        </p:nvSpPr>
        <p:spPr>
          <a:xfrm flipH="1">
            <a:off x="1455480" y="1355760"/>
            <a:ext cx="1455480" cy="527040"/>
          </a:xfrm>
          <a:prstGeom prst="line">
            <a:avLst/>
          </a:prstGeom>
          <a:ln w="3672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2852640" y="1346040"/>
            <a:ext cx="1800" cy="71280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 flipH="1">
            <a:off x="2052720" y="2409840"/>
            <a:ext cx="844560" cy="56196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6" descr=""/>
          <p:cNvPicPr/>
          <p:nvPr/>
        </p:nvPicPr>
        <p:blipFill>
          <a:blip r:embed="rId4"/>
          <a:stretch/>
        </p:blipFill>
        <p:spPr>
          <a:xfrm>
            <a:off x="6004080" y="2635200"/>
            <a:ext cx="28382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8F129-FAA7-4CEE-BB4E-58B70B367FE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98720" y="1168560"/>
            <a:ext cx="3466800" cy="2350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14520" y="1913040"/>
            <a:ext cx="1900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465280" y="1994040"/>
            <a:ext cx="14209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262160" y="2994120"/>
            <a:ext cx="1709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ion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241800" y="2994120"/>
            <a:ext cx="201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033800" y="1986120"/>
            <a:ext cx="1909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ion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2892600" y="2408400"/>
            <a:ext cx="974520" cy="63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>
            <a:off x="2889360" y="1346040"/>
            <a:ext cx="1440" cy="71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1455480" y="1390680"/>
            <a:ext cx="145548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6761160" y="1600200"/>
            <a:ext cx="2011320" cy="347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"/>
          <p:cNvPicPr/>
          <p:nvPr/>
        </p:nvPicPr>
        <p:blipFill>
          <a:blip r:embed="rId3"/>
          <a:stretch/>
        </p:blipFill>
        <p:spPr>
          <a:xfrm>
            <a:off x="6016680" y="2057400"/>
            <a:ext cx="2800440" cy="485640"/>
          </a:xfrm>
          <a:prstGeom prst="rect">
            <a:avLst/>
          </a:prstGeom>
          <a:ln w="0">
            <a:noFill/>
          </a:ln>
        </p:spPr>
      </p:pic>
      <p:sp>
        <p:nvSpPr>
          <p:cNvPr id="257" name="Line 13"/>
          <p:cNvSpPr/>
          <p:nvPr/>
        </p:nvSpPr>
        <p:spPr>
          <a:xfrm flipH="1">
            <a:off x="1455480" y="1355760"/>
            <a:ext cx="1455480" cy="527040"/>
          </a:xfrm>
          <a:prstGeom prst="line">
            <a:avLst/>
          </a:prstGeom>
          <a:ln w="3672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2852640" y="1346040"/>
            <a:ext cx="1800" cy="71280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2052720" y="2409840"/>
            <a:ext cx="844560" cy="56196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6" descr=""/>
          <p:cNvPicPr/>
          <p:nvPr/>
        </p:nvPicPr>
        <p:blipFill>
          <a:blip r:embed="rId4"/>
          <a:stretch/>
        </p:blipFill>
        <p:spPr>
          <a:xfrm>
            <a:off x="6004080" y="2635200"/>
            <a:ext cx="2838240" cy="51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990720" y="4421160"/>
                <a:ext cx="28429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8"/>
              <p:cNvSpPr txBox="1"/>
              <p:nvPr/>
            </p:nvSpPr>
            <p:spPr>
              <a:xfrm>
                <a:off x="4343400" y="4540320"/>
                <a:ext cx="4648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9"/>
              <p:cNvSpPr txBox="1"/>
              <p:nvPr/>
            </p:nvSpPr>
            <p:spPr>
              <a:xfrm>
                <a:off x="5638680" y="5519880"/>
                <a:ext cx="3070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Text Box 20"/>
          <p:cNvSpPr/>
          <p:nvPr/>
        </p:nvSpPr>
        <p:spPr>
          <a:xfrm>
            <a:off x="4800600" y="6554880"/>
            <a:ext cx="43434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s et al., Machine Learning 73(2):185-214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8C420-8DDF-466B-B8C7-9746A19925F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914400" y="113976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f stores the mean label: proportion of the examples belonging to each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is made by using user-defined thresh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914400" y="4011480"/>
            <a:ext cx="7156080" cy="2238120"/>
            <a:chOff x="914400" y="4011480"/>
            <a:chExt cx="7156080" cy="223812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1371240" y="4011480"/>
              <a:ext cx="639936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914400" y="5247360"/>
              <a:ext cx="2056680" cy="10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nyl nucleotide binding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 serine/threonine kinase activ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6"/>
            <p:cNvSpPr/>
            <p:nvPr/>
          </p:nvSpPr>
          <p:spPr>
            <a:xfrm>
              <a:off x="4558320" y="5258160"/>
              <a:ext cx="2056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modulin binding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lation elongation factor activity</a:t>
              </a: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3885480" y="5202720"/>
              <a:ext cx="456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7613640" y="5226480"/>
              <a:ext cx="4568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8008D-085A-45E3-B241-7D6E23BA0A5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D7A4-12A8-4C4C-9133-4E019CED335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 Method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719280" y="1305000"/>
            <a:ext cx="79675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s are set of predictiv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Unstable base class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schemes to combine the predictions into a single pred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 learning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38398-DEF0-43D5-9FA1-08A260642FB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 Method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719280" y="1305000"/>
            <a:ext cx="79675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s are set of predictiv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Unstable base class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schemes to combine the predictions into a single pred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 learning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odification of the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257800" y="5138640"/>
            <a:ext cx="1828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Ba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5095440" y="5378400"/>
            <a:ext cx="466920" cy="1800"/>
          </a:xfrm>
          <a:prstGeom prst="line">
            <a:avLst/>
          </a:prstGeom>
          <a:ln w="93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7086600" y="52578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3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386480" y="4921200"/>
            <a:ext cx="15289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22FAA-6D9B-47CF-A918-7562D45FAF6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 Methods: Algorith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398600" y="1359000"/>
            <a:ext cx="6373800" cy="4813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486400" y="6508800"/>
            <a:ext cx="3657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from van Assche, PhD Thesis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74086-D438-4A34-9614-4C4A23417A4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719280" y="1305000"/>
            <a:ext cx="796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amounts of structur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Ve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Hierarchies – trees, DAGs,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equences – time serie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751360" y="1792440"/>
            <a:ext cx="320544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EF13F-86E8-4617-8FD9-4ADBB897762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nsembles for structured outpu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609480" y="1176480"/>
            <a:ext cx="80773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Ts as base class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schemes for the structured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T Classification: majority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probability distribution vo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T Regression and HMLC: averag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For an arbitrary structure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prototype calculation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E6084-49D0-4662-A2A3-7706096754D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0455C-5EAC-41D7-8C1C-16DA948DC71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708120" y="1521000"/>
            <a:ext cx="8435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base classifiers are enough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nsembles of PCTs lift the predictive performance of a single P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nsembles of PCTs are better than ensembles for each sub-component separate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pproach is more efficient in terms of time and size of the mode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Experimental hypothes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69157-5AAB-4527-85DB-D53FCD3C284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Datase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12960" y="1325520"/>
          <a:ext cx="7726320" cy="1708200"/>
        </p:xfrm>
        <a:graphic>
          <a:graphicData uri="http://schemas.openxmlformats.org/drawingml/2006/table">
            <a:tbl>
              <a:tblPr/>
              <a:tblGrid>
                <a:gridCol w="1930320"/>
                <a:gridCol w="1109520"/>
                <a:gridCol w="1379520"/>
                <a:gridCol w="2227320"/>
                <a:gridCol w="107964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a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ve attrib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ze of Out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T Reg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4..606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.1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T Class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4..103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.2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8..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744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.5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303" name="Text Box 61"/>
          <p:cNvSpPr/>
          <p:nvPr/>
        </p:nvSpPr>
        <p:spPr>
          <a:xfrm>
            <a:off x="709560" y="3105000"/>
            <a:ext cx="83502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sets with multiple targ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ainly environmental data acquired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U and Slovenian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mage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ex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unctional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CF263-A98C-48CB-B370-90EA7E4E2A1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xperimental desig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709560" y="1106640"/>
            <a:ext cx="8434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CTs and ST trees (with F-test pru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nsembles of PCTs and ensembles of ST 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Ts for HMLC weight for the distance - 0.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base classifiers (unprun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lassification: 10, 25, 50, 75, 100, 250, 500,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gression: 10, 25, 50, 75, 100, 150,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MLC: 10, 25, 50, 75,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88A24-653D-4ADA-ACAE-E036BDEBBC9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Experimental design (ctd.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671400" y="1371600"/>
            <a:ext cx="84726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forest – feature subset s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ultiple Targets: 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MLC: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-fold cross-valid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 Classification - Accur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 Regression - correlation coefficient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MSE, RRM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L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sion-Recall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PR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ves, Area unde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C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dman and Nemenyi statistical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B8503-E59A-46D4-8CDF-5ED59F1EA40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recision-Recall Curv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71400" y="939960"/>
            <a:ext cx="90360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 curve plots Precision as a function of the Rec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 curves per cl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icro-averaging: Area under the average PR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cro-averaging: Average area under the PR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1609560" y="1252440"/>
                <a:ext cx="2314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4600440" y="1222200"/>
                <a:ext cx="20383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C059-B666-447A-89DD-B1A35F121B1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recision-Recall Curv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671400" y="939960"/>
            <a:ext cx="90360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 curve plots Precision as a function of the Rec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 curves per cl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icro-averaging: Area under the average PR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cro-averaging: Average area under the PR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609560" y="1252440"/>
                <a:ext cx="2314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4600440" y="1222200"/>
                <a:ext cx="20383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+F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200400" cy="24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E4239-EC5F-4742-A547-927355E8D06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914400" y="1809720"/>
            <a:ext cx="3657600" cy="1654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5257800" y="1846440"/>
            <a:ext cx="3657600" cy="16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DB4B1-7AB8-4926-B71B-BF7974199EE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914400" y="1809720"/>
            <a:ext cx="3657600" cy="1654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5257800" y="1846440"/>
            <a:ext cx="3657600" cy="16189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5"/>
          <p:cNvSpPr/>
          <p:nvPr/>
        </p:nvSpPr>
        <p:spPr>
          <a:xfrm>
            <a:off x="974880" y="3778200"/>
            <a:ext cx="7940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Random forest                               ST Random fo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3657600" cy="1619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4"/>
          <a:stretch/>
        </p:blipFill>
        <p:spPr>
          <a:xfrm>
            <a:off x="5257800" y="4307040"/>
            <a:ext cx="365760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10907-618D-4979-A858-DA357F15824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719280" y="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719280" y="1305000"/>
            <a:ext cx="796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amounts of structur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Ve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Hierarchies – trees, DAGs,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equences – time serie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ensemble methods in simple classification and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751360" y="1792440"/>
            <a:ext cx="320544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9557E-48E4-45F8-96D4-E18990C2FF2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7400" y="1227240"/>
            <a:ext cx="4572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9D617-40DE-47D5-8957-8619ABEB4DF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Regression (RRMSE)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057400" y="1227240"/>
            <a:ext cx="4572000" cy="2057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685800" y="3681360"/>
            <a:ext cx="845820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 Ensembles perform better t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ingle MT tree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T Ensem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aster to learn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maller models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19403-A333-4E1A-8730-F9650B488D9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22160" y="1955880"/>
            <a:ext cx="3886200" cy="1490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5029200" y="1938240"/>
            <a:ext cx="388620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94450-1240-420C-A74E-B0A6929E8E8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Bagging                                           ST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974880" y="3849840"/>
            <a:ext cx="7940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Random forest                               ST Random fo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722160" y="1955880"/>
            <a:ext cx="3886200" cy="1490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5029200" y="1938240"/>
            <a:ext cx="3886200" cy="1490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3886200" cy="1736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4"/>
          <a:stretch/>
        </p:blipFill>
        <p:spPr>
          <a:xfrm>
            <a:off x="5065560" y="4654440"/>
            <a:ext cx="3886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48128-4A8E-453D-8EF7-E679435D2BE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286000" y="1344600"/>
            <a:ext cx="457200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19C75-7812-4AF4-9D79-69F181FBBC2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Classification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685800" y="3681360"/>
            <a:ext cx="845820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 Ensembles perform better t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ingle MT tree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aster to learn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smaller models than ST ensembles (stat. sig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 Bagging is better than ST Bagging, while MT random forest is worse than ST random 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2286000" y="1344600"/>
            <a:ext cx="457200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F606A-0DE0-4A88-A6EE-C7B6E240358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LC Bagging                                    HSLC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886200" cy="1179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92402-ACBD-466B-A8F4-66CFBC2936A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719280" y="23760"/>
            <a:ext cx="7916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614520" y="1235160"/>
            <a:ext cx="843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LC Bagging                                    HSLC Ba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974880" y="3849840"/>
            <a:ext cx="7940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LC Random forest                          HSLC Random fo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886200" cy="117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118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3"/>
          <a:stretch/>
        </p:blipFill>
        <p:spPr>
          <a:xfrm>
            <a:off x="685800" y="4591080"/>
            <a:ext cx="3886200" cy="1123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"/>
          <p:cNvPicPr/>
          <p:nvPr/>
        </p:nvPicPr>
        <p:blipFill>
          <a:blip r:embed="rId4"/>
          <a:stretch/>
        </p:blipFill>
        <p:spPr>
          <a:xfrm>
            <a:off x="5029200" y="4572000"/>
            <a:ext cx="388620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87D2C-FC16-44FD-8C19-846700FA480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357280" y="1471680"/>
            <a:ext cx="45720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9B41-6D2A-4E00-B3C9-B0C0581BA98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719280" y="-47520"/>
            <a:ext cx="7916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– HMLC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685800" y="3681360"/>
            <a:ext cx="845820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LC Ensembles perform better th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ingle HMLC tree (stat. sign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faster to learn than HSLC ensembles (stat. sign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maller models than HSLC ensembles (stat. sign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LC Bagging is better than HSLC Bagging, while HMLC random forest is worse than HSLC random for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2357280" y="1471680"/>
            <a:ext cx="45720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77015-17D1-4172-9B81-8E3A69C0C6D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AB560-358D-460A-B478-20812218E2C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Results - Summ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784080" y="1371600"/>
            <a:ext cx="8436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s of P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significantly better than single P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better than ensembles for the sub-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and faster to learn than the ensembles for the sub-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multiple targets the ratio is ~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HMLC the ratio is ~ 4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DB0A8-BE0E-4957-876E-210547D3F94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59E57-FBC5-4DE1-ADE8-D5188EE73F6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Ensembles of PCTs - functional genomic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685800" y="1414440"/>
            <a:ext cx="82296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ic prediction of the multiple functions of the ORFs in a gen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for HMLC compared with state-of-the-art approach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sets for three organis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. Cerevisae, A. Thaliana and M. muscul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annotation sche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FunCAT and GO (Gene Ontolog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5257800" y="6554880"/>
            <a:ext cx="388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tgat et al., BMC Bioinformatics 11:2,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FEA00-65A9-4501-ADA7-1D7D4BEA89B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Background – network based approach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601560" y="1414440"/>
            <a:ext cx="86868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ge of known functions of genes nearby in a functional association networ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F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Chen and Xu, 2004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M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Mostafavi et al., 2008) – combines multiple networks from genomic and proteom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Kim et al., 2008) – combines predictions of a network with predictions from Naïve Ba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ckenste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ian et al., 2008) – logistic regression to combine predictions from network and random for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F2C44-43BD-4233-ABEA-DA545B43554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Background – kernel based approach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L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Lee et al., 2006) – combination of Markov random fields and SVMs with diffusion kernels and using them in kernel logistic reg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SV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Obozinski et al., 2008) – SVM for each function separately, and then reconciliated to enforce the hierarchy constra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SV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Barutcuoglu et al., 2006) – SVM for each function separately, then predictions combined using a Bayesian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SVM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Guan et al., 2008) – extension of BSVM, uses Naïve Bayes to combine results over the data sour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73458-7093-4438-962C-FCEB776189A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Datase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ccharomyces Cerevisiae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quence statistics, phenotype, secondary structure, homology and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bidopsis Thaliana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quence statistics, expression, predicted SCOP class, predicted secondary structure, InterPro and hom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ach dataset annotated with FunCAT and 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 Musculus (D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ouseFunc challenge, various data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F3D0E-69D8-4C8B-93BB-B4CC80889EC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Experimental hypothe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ther Bagging of PCTs are better than single PCT for HMLC and C4.5/H?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Bagging of PCTs with BSVM on 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Bagging of PCTs with the approaches from MouseFunc Challenge (D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515DF-0912-4DAA-9ADB-193F28A8B5B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Bagging of PCTs vs. PC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6506-6F37-4297-AF46-6B3B1A9C2C7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Bagging vs. PCTs vs. C4.5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34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A1BC6-D72D-4A15-B020-840A8382A6D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Bagging of PCTs vs. BSV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ison by AURO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erage over the AUROC for all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agging of PCTs: 0.87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SVM: 0.85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scores better on 73 of the 105 GO functions than BSVM (p = 4.37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 baseline="33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86AD9-B6CD-4E29-936B-64176F6F219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Structured outpu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719280" y="1305000"/>
            <a:ext cx="796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in supervise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ingle discrete or continuous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in structured 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Vector of discrete or continuous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ierarchy – tree or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quences – time s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-composition to simpler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xploitation of th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B1EE2-79C4-44F8-A34F-74EA28EB25A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eams use differen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the dat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Three branches of GO (BP, MF and CC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Four ranges of specificity: number of genes by which each term is annotated with (3-10, 11-30, 31-100 and 101-30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3465360" y="1517760"/>
                <a:ext cx="38862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C</m:t>
                            </m:r>
                          </m:e>
                        </m:bar>
                      </m:e>
                    </m:d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PRC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RO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0D993-F9EB-4E4D-835E-8186E7635E5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 (2)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722160" y="3429000"/>
            <a:ext cx="868680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better (p &lt; 0.01) than BSVM+, CSVM, GeneFAS and K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etter than KLR and Gene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worse (p &lt; 0.01) than Funckenst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82296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4114800" y="1252440"/>
                <a:ext cx="1371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C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09A84-F914-4FC4-9C87-C4E19B33F23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 (3)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722160" y="3429000"/>
            <a:ext cx="84218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better (p &lt; 0.01) than K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ot different from BSVM+, KLR, CSVM, GeneF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worse (p &lt; 0.01) than Funckenstein and Gene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4114800" y="1252440"/>
                <a:ext cx="1096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PR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82296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E1E9D-A06B-4800-AD9D-F73CCC387AC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Results – MouseFunc (4)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722160" y="3429000"/>
            <a:ext cx="84218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ot different from KLR, CSVM, GeneFAS and K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ignificantly worse (p &lt; 0.01) than Funckenstein, BSVM+ and Gene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4114800" y="1252440"/>
                <a:ext cx="1128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URO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822960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B9581-8FA0-46FE-A6C0-19D544B9015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Summary – Functional genomic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outperforms single PCT and C4.5H/M (Clare, 200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outperforms a statistical learner based on SVMs (BSVM) for S. Cerevisia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ging of PCTs is competitive to statistical and network based methods for the M. Musculus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BC2B9-9261-4D0C-A116-65C95DCDADB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"/>
          <p:cNvSpPr/>
          <p:nvPr/>
        </p:nvSpPr>
        <p:spPr>
          <a:xfrm>
            <a:off x="719280" y="-1440"/>
            <a:ext cx="7921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719280" y="1305000"/>
            <a:ext cx="8424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Structured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redictive Clustering Trees (P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  <a:ea typeface="DejaVu Sans"/>
              </a:rPr>
              <a:t>PCTs for HM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nsembles of P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Experimental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Application in functional ge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7B60C-95A9-4C30-AD2C-7668589284C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601560" y="1414440"/>
            <a:ext cx="85424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ft the predictive performance of single P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han ensembles for each of the sub-component of the outp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ve with state-of-the-art approaches in functional genom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ility to wide range of probl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Different type and sizes of outp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Small and large datas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26880">
              <a:lnSpc>
                <a:spcPct val="100000"/>
              </a:lnSpc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16507-F2B2-48A1-B7D0-CF58C022F64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57200" y="2836800"/>
            <a:ext cx="8686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Schoolbook L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4859280" y="4592520"/>
                <a:ext cx="131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28BA2-1A4F-404C-A705-06AE7D57E76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redictive Clustering Tre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744480" y="1447920"/>
            <a:ext cx="83995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Top-Down Induction of D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erarchy of clu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ance measure: minimization of intra-cluster vari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antiation of the variance for different tas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371600" y="3909960"/>
            <a:ext cx="6620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7F0F2-9753-42E2-8183-95D8ADD60BA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719280" y="0"/>
            <a:ext cx="8424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– Multiple numeric targe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685800" y="1300320"/>
            <a:ext cx="81342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of vegetation in Victoria,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at Hectares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Large Trees, Tree Canopy Cover, Understorey, Litter, Logs, Weeds and Recruit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clidean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4486320" y="5630760"/>
                <a:ext cx="4124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600200" y="3365640"/>
            <a:ext cx="2743200" cy="2120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800600" y="3365640"/>
            <a:ext cx="2743200" cy="2120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114800" y="6554880"/>
            <a:ext cx="5029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cev et al., Ecological Modelling 220(8):1159-1168,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26F0E-2463-46BA-B165-6F811019CD7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719280" y="0"/>
            <a:ext cx="7921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– Multiple discrete targe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781200" y="1557360"/>
            <a:ext cx="81342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 – Slovenian media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8000 Questionnaires about reading and TV habits and life style of Sloven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buClr>
                <a:srgbClr val="94bd5e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people re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Delo, Dnevnik, Ekipa, Slovenske Novice, Več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spcBef>
                <a:spcPts val="64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2209680" y="5208480"/>
                <a:ext cx="42991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Gin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270160" y="4309920"/>
                <a:ext cx="5121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ntrop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Text Box 5"/>
          <p:cNvSpPr/>
          <p:nvPr/>
        </p:nvSpPr>
        <p:spPr>
          <a:xfrm>
            <a:off x="5257800" y="6554880"/>
            <a:ext cx="388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ranjc et al., Informatica 25(3):357-363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840360" y="6416640"/>
            <a:ext cx="183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1E3C7-9867-431C-AF55-B9EA5C06DAF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693720" y="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Times New Roman"/>
              </a:rPr>
              <a:t>PCTs - HML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2"/>
          <p:cNvGrpSpPr/>
          <p:nvPr/>
        </p:nvGrpSpPr>
        <p:grpSpPr>
          <a:xfrm>
            <a:off x="614520" y="1168560"/>
            <a:ext cx="5108040" cy="2349360"/>
            <a:chOff x="614520" y="1168560"/>
            <a:chExt cx="5108040" cy="2349360"/>
          </a:xfrm>
        </p:grpSpPr>
        <p:pic>
          <p:nvPicPr>
            <p:cNvPr id="186" name="Picture 3" descr=""/>
            <p:cNvPicPr/>
            <p:nvPr/>
          </p:nvPicPr>
          <p:blipFill>
            <a:blip r:embed="rId1"/>
            <a:stretch/>
          </p:blipFill>
          <p:spPr>
            <a:xfrm>
              <a:off x="1098360" y="1168560"/>
              <a:ext cx="34657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4"/>
            <p:cNvSpPr/>
            <p:nvPr/>
          </p:nvSpPr>
          <p:spPr>
            <a:xfrm>
              <a:off x="614520" y="1912320"/>
              <a:ext cx="16581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5"/>
            <p:cNvSpPr/>
            <p:nvPr/>
          </p:nvSpPr>
          <p:spPr>
            <a:xfrm>
              <a:off x="2464560" y="1993320"/>
              <a:ext cx="109656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1261800" y="2992680"/>
              <a:ext cx="13708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7"/>
            <p:cNvSpPr/>
            <p:nvPr/>
          </p:nvSpPr>
          <p:spPr>
            <a:xfrm>
              <a:off x="3240720" y="2992680"/>
              <a:ext cx="16898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rmen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4032720" y="1985400"/>
              <a:ext cx="16898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kocev</cp:lastModifiedBy>
  <dcterms:modified xsi:type="dcterms:W3CDTF">2010-02-02T09:01:01Z</dcterms:modified>
  <cp:revision>118</cp:revision>
  <dc:subject/>
  <dc:title>Simple Blue</dc:title>
</cp:coreProperties>
</file>